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2D0-6E94-4C75-BDBD-33A1E5C69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D4D-6E50-4C70-ADFF-1DD5566A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1D2-CABB-4F2D-8EAF-944B0BE9B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DC9-9398-4720-B123-F6CED62B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B76-A094-4EBD-9288-933E1580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8A3-E137-4999-89BA-7A01680F9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DD3-D4C7-44E7-9237-9A7347BE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863-66FD-4F64-A356-439D7148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D7A-3AC9-425C-8AEF-67549696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564-9985-48B1-BF30-13DD7CE04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A4E6-490E-4FDB-BD4A-0EF5C296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794-F3AD-40B9-ACAC-46D374DB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5C4-0CE8-40FA-A189-E3FD94C8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9DB-983D-45FB-8F5B-CB8A3DC7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89F-FBFC-4F9D-9178-BD8383E9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FAA-0639-48D3-96AC-F7BA6979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D53-F480-4FCE-ABF5-E8B1F14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08E-D509-4A11-810B-94284700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11A-0387-40F5-9A8F-ECBCADA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DC3-15FA-462B-B137-1271E13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1C6-C2EE-4808-88F7-8A18554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897-8DBA-4B07-9EA1-E1646EF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462-0E33-4426-AAEF-A131309D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855-7056-4E4F-B146-612898B0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the hot air balloon and magma that a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 the table fill in the aspects that are different for the causes of rising as well as the factors impacting density and buoyanc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666880"/>
          <a:ext cx="8991720" cy="3305160"/>
        </p:xfrm>
        <a:graphic>
          <a:graphicData uri="http://schemas.openxmlformats.org/drawingml/2006/table">
            <a:tbl>
              <a:tblPr/>
              <a:tblGrid>
                <a:gridCol w="3014640"/>
                <a:gridCol w="3013200"/>
                <a:gridCol w="2963880"/>
              </a:tblGrid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density of balloon/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buoy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Hot Air Ballo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6324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as flame is used to heat the air inside the balloon.  The warm air in the balloon is less dense than the air outside the ballo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165400"/>
          <a:ext cx="6934320" cy="4694040"/>
        </p:xfrm>
        <a:graphic>
          <a:graphicData uri="http://schemas.openxmlformats.org/drawingml/2006/table">
            <a:tbl>
              <a:tblPr/>
              <a:tblGrid>
                <a:gridCol w="3497400"/>
                <a:gridCol w="3436920"/>
              </a:tblGrid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5"/>
          <p:cNvSpPr/>
          <p:nvPr/>
        </p:nvSpPr>
        <p:spPr>
          <a:xfrm>
            <a:off x="7010280" y="30481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irpurifierreviews.info/wp-content/uploads/2010/09/hot-air-balloon-r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ot-air-balloon-ride.jpg"/>
          <p:cNvPicPr/>
          <p:nvPr/>
        </p:nvPicPr>
        <p:blipFill>
          <a:blip r:embed="rId1"/>
          <a:stretch/>
        </p:blipFill>
        <p:spPr>
          <a:xfrm>
            <a:off x="6934320" y="0"/>
            <a:ext cx="2266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: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es of hot magma rise through the lithosphere until they cool and solidify into igneous r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63880"/>
          <a:ext cx="9144000" cy="4033800"/>
        </p:xfrm>
        <a:graphic>
          <a:graphicData uri="http://schemas.openxmlformats.org/drawingml/2006/table">
            <a:tbl>
              <a:tblPr/>
              <a:tblGrid>
                <a:gridCol w="4610160"/>
                <a:gridCol w="4533840"/>
              </a:tblGrid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ater added to hot rocks deep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the cold lithosphere and the hot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solidifies and stops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 between the magma and oceanic lithosphere versus continental lith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4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es leaving the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6400800" y="2438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by Scott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Subduction diagram.jpg"/>
          <p:cNvPicPr/>
          <p:nvPr/>
        </p:nvPicPr>
        <p:blipFill>
          <a:blip r:embed="rId1"/>
          <a:stretch/>
        </p:blipFill>
        <p:spPr>
          <a:xfrm>
            <a:off x="6021360" y="533520"/>
            <a:ext cx="31226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447920"/>
          <a:ext cx="8991360" cy="5333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2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1-01-13T19:49:43Z</dcterms:modified>
  <cp:revision>310</cp:revision>
  <dc:subject/>
  <dc:title>PowerPoint Presentation</dc:title>
</cp:coreProperties>
</file>